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358-2993-4C5A-B48C-10BD98F7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CE4-7650-48DF-9B88-757D3F74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3B1-EAD5-4287-B924-9CB0FCF1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D40-3E88-4E73-B8BA-42324400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DE77D-ADEB-4B4D-B972-DC9BF4B6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32187-5CF0-401B-8268-0D6E4A85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24184-99C5-4FDC-A413-16B7C197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6F8F1-C2A9-4568-B494-B7FBFB1C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2E77C-CF0D-4544-B394-60BB34E2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CDE14-5E69-4740-9C25-3ADD6193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D51E3-803C-4D2E-847C-471BAE4B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49D-E89A-4D51-A0FD-62110209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A5A53-83DC-4A0E-A1E1-5CDAE5DD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BAD16-0916-4618-8EAC-5E5F49C3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EE22B-507F-4CFB-AEAC-932BF0A4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A5BA6-6007-4B4C-8704-4DDAE935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E2E05-210D-4540-96F6-2FBF7BAA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A8C-8F62-458B-8AA5-FC21A34F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D16-9F89-4261-AF57-7C4277B4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17C-FF19-4390-9B47-BA24E801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D38-985E-4A29-9E00-7503E60E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DF1-D08E-46BA-B41B-73C6A610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5CB-79BE-4D3D-8D4F-EF935EA5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3BC-4716-4760-9F70-8D71B3EF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7445-05B2-4AE0-8E8D-955AAE9B8E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9071-6876-444A-9F23-24CE36D501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7561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рода лу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437080"/>
            <a:ext cx="58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Чертагановой Ольги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ифоновой Марины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16200" y="1413000"/>
            <a:ext cx="3252960" cy="403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ым в телескоп наблюдал Луну Галилео Галилей. Он увидел лунный пейзаж, покрытый горами и изрытый крате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373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лескопы Галилея(Музей истории науки, Флоренция) Два телескопа укреплены на музейной подставке. В центре виньетки разбитый объектив от первого телескопа Гали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797120"/>
            <a:ext cx="5761080" cy="4200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истеме наименований деталей рельефа Луны, используемой в настоящее время на картах, сохранились названия, данные еще Яном Гевелием в 1647 году, - Альпы, Апеннины, Кав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6226200"/>
            <a:ext cx="4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9500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02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ерхность Луны, снятая АМС «Клемент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5184720" cy="4665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альянский астроном Джованни Риччоли в 1651 г. предложил называть образования на Лун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терами и мор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3736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61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Эратосфен диаметром 61 км образовался относительно недавно.                 На горизонте виден другой молодой кратер-Копе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79640" y="191772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9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ные области на Луне носят названия: Море Влажности Океан Бурь, Море Дождей, Море Облаков, Залив Росы , Залив Радуги, Море Ясности, Море Спокойствия, Море Изоби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ре споко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628640"/>
            <a:ext cx="3621240" cy="497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ша автоматическая станция «Луна-2» первой достигла лунной поверхности, а АМС «Луна-3» сфотографировала невидимую с Земли сторону Луны в 1959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МС – «Луна-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78160" cy="228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1970 году автоматическая станция «Луна-17» доставила на Луну «Луноход -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оход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имая сторона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227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Луне побывали 12 астронавтов космических экспедиций «Аполло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19640" y="4184640"/>
            <a:ext cx="3024360" cy="22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4200480"/>
            <a:ext cx="31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51640" y="1300320"/>
            <a:ext cx="3024000" cy="21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573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д космонавта на мягком грунт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638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оллон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78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следование кра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только космическими автоматическими станциями исследуется поверхность Луны, но и современные телескопы ведут наблюдения  за спутн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блюдения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68880" cy="349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деальное место для  астрономических наблюдени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же сейчас существуют проекты будущих лунных  обсервато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17622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 – оди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 самых крупных спут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Солнечной сис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522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а на нашем небосклоне и Земля на лунном н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40720" cy="631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075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ля видна на небосклоне Лу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Земли с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90800"/>
            <a:ext cx="5477040" cy="3308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 вращения Луны вокруг своей ос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авен сидерическому периоду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кольку время одного оборота Луны вокруг Земли в точности равно времени одного оборота ее вокруг оси, Луна постоянно повернута к Земле одной и той же сторо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Луны в телеско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705440" cy="3854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 Луны в 81 раз меньше массы Земли, и поэтому на ней нет атмосф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6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сутствие атмосферы на Луне приводит к резким колебаниям температуры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1778040"/>
            <a:ext cx="4935240" cy="4935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ее строение Луны изучено по сейсмическим данным, переданными  приборами космических экспедиций «Аполлон»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лщина  коры Луны 60-100 км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Толщина верхней мантии 4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нутреннее строени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7632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учение лунных пород, доставленных на Землю, позволило оценить возраст Луны методом радиоактивного распад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мни на луне стали твердыми около 4,4 млрд. лет наз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ва-1,5 килограммовый базальт одного из лунны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292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рава – горные породы со дна кратера, образовавшиеся в результате падения метео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700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центре - анортозит, по составу похожий на лунную кору возвышенных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080" y="363600"/>
            <a:ext cx="79786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щная литосфера толщиной около 1000 км исключает разломы и выход лавы на поверхность. Но раньше миллиарды лет назад, на Луне были извержения вулк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Ван де Граф шириной 243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1:14:57Z</dcterms:created>
  <dc:creator>Авдонин Александр Петрович</dc:creator>
  <dc:description/>
  <dc:language>en-US</dc:language>
  <cp:lastModifiedBy>Name</cp:lastModifiedBy>
  <dcterms:modified xsi:type="dcterms:W3CDTF">2010-09-23T12:06:11Z</dcterms:modified>
  <cp:revision>11</cp:revision>
  <dc:subject/>
  <dc:title>Поверхность Лу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9000000000001024140</vt:lpwstr>
  </property>
</Properties>
</file>